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C13E-0B31-4134-BC49-E6C0D589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7D35-9A51-4F36-8C32-E7D42B38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6E6F-A4C6-4D12-A5CE-F515719F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256C-6114-45F2-965C-F3AA375F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BDCC-F7CF-42A7-AC71-14A59016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92E0-0458-4B36-B80B-73DCC580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4FB6-7EC4-4B05-A3E1-E80EA5F1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821-C125-462F-BEA8-05CEB13E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756B-DED7-4FB6-AD84-18D75458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260D-F028-4D92-970D-71FE78C4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1214-C336-4E7F-9B45-D6464D0F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3F59-E9BA-4790-B090-F2D2CDE4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EB30-ECE0-44AF-BB7E-442BB8A5D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eography of Ancient Gree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391520" cy="462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C781-8189-4EE7-823F-C81D7CEEE4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7a7c30"/>
                </a:solidFill>
                <a:uFillTx/>
                <a:latin typeface="Arial"/>
              </a:rPr>
              <a:t>Minoan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On Island of Crete (to the Sou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From 2000-1400 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Lived a prosperous life from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Evidence that women shared social 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Uncertain how the cause for the end of Minoan Civ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43000" y="2895480"/>
            <a:ext cx="2695680" cy="2133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00600" y="289548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9B96-FAD3-4416-8ADD-470F2FEDFD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7a7c30"/>
                </a:solidFill>
                <a:uFillTx/>
                <a:latin typeface="Arial"/>
              </a:rPr>
              <a:t>Mycenaean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Lived on Mainland of Gre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From 1600-1200 B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Migrated from India, Egypt, and other 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Walled-cities for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Enormous wealth from war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plunder &amp; trade–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indoor plum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Most were farm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34120" y="3276720"/>
            <a:ext cx="360036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6DE8-27AA-4DCB-9942-9AF2649348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7a7c30"/>
                </a:solidFill>
                <a:uFillTx/>
                <a:latin typeface="Arial"/>
              </a:rPr>
              <a:t>Troj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7c30"/>
                </a:solidFill>
                <a:latin typeface="Arial"/>
              </a:rPr>
              <a:t>Happened around 1200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7c30"/>
                </a:solidFill>
                <a:latin typeface="Arial"/>
              </a:rPr>
              <a:t>Trojan prince had ta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7c30"/>
                </a:solidFill>
                <a:latin typeface="Arial"/>
              </a:rPr>
              <a:t>Helen, wife of a Greek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7c30"/>
                </a:solidFill>
                <a:latin typeface="Arial"/>
              </a:rPr>
              <a:t>Trojan Hor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7c30"/>
                </a:solidFill>
                <a:latin typeface="Arial"/>
              </a:rPr>
              <a:t>(myth or fac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724280" y="3505320"/>
            <a:ext cx="3730680" cy="2798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251400" y="914400"/>
            <a:ext cx="2892600" cy="217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94DB-E074-4FA9-8831-10F696E344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Arial"/>
              </a:rPr>
              <a:t>Dark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or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Olym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eligion/ Myt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9672-F6A8-40D2-86FE-E38F9F35AB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Arial"/>
              </a:rPr>
              <a:t>Dorian 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ycenaean Society was destroyed by invaders around 1200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rom 1150-750 B.C., distant relatives known as the Dorians settled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y destroyed trade and lost all writing (causing the term “Dark Ages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D8AC-BEDC-4883-B8C7-92C49A872A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Arial"/>
              </a:rPr>
              <a:t>Ho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most famous “bard” during the Dark 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F89-F77B-4748-BBEB-4F87347B8F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Arial"/>
              </a:rPr>
              <a:t>The Ili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3429000" cy="3886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381024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CDC0-B8FA-4DD0-AD0C-7868511A3D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Arial"/>
              </a:rPr>
              <a:t>The Odyss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55308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13E9-90A4-4BF1-ABB4-1EA2E094CE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Arial"/>
              </a:rPr>
              <a:t>Ar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o Strive for excellence, show courage, and win fame and ho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omer used his Epics to portray the Greek ideal of A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A35D-CA06-47CD-909C-94530B6F7D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Arial"/>
              </a:rPr>
              <a:t>The Olympics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mpetition took place in Olympia every four years, beginning in 776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asted 5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inners crowned with wreath of olive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eal prize was A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1485720" cy="1523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315200" y="0"/>
            <a:ext cx="148608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324480" y="4038480"/>
            <a:ext cx="1795680" cy="2543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81480" y="3886200"/>
            <a:ext cx="1447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39C5-0E51-4D71-8FA2-B3BF838CF4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99ff"/>
                </a:solidFill>
                <a:uFillTx/>
                <a:latin typeface="Arial"/>
              </a:rPr>
              <a:t>The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Greece is a Peninsula surrounded by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Aegean Sea (to the E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Ionian Sea (to the W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Black Sea (to the North-W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Mediterranean Sea (to the Sou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Trade was imperative because Greece was not rich in natural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8CA7-84A1-47B8-97CA-B4018F2EBA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 Olymp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92504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5CAA-D9A5-4AC6-AB2D-3F832DC075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Arial"/>
              </a:rPr>
              <a:t>Gods and Godd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Very human, with human emotions, but immor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Gathered at Mount Olym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YTHS – stories about gods intended to explain mysteries of nature and human ex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eligion was closely linked to government and polis’ pr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F70E-2776-49BD-90A4-F9226DDC96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341280"/>
            <a:ext cx="8305920" cy="623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B4FE-EB11-4C01-8061-63ECFB6918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8000"/>
                </a:solidFill>
                <a:uFillTx/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ountains covered 75% of Gre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ount Olympus (highest, home of Greek Go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ade for difficult travel, but good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Fertile Valleys covered 25% and made for the living areas known as city-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Not enough fresh-water to feed a large population (only about 2 million peo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4537-DF40-49EE-8417-347597E552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284040"/>
            <a:ext cx="8458200" cy="634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ABA5-74CE-4FBB-BC37-AC3A22A8B3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6600"/>
                </a:solidFill>
                <a:uFillTx/>
                <a:latin typeface="Arial"/>
              </a:rPr>
              <a:t>The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Moderate temper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Only rains in w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ed to outdoor l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Agora (market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Gymna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Political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hea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ligious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articipation in city-states was a DUTY &amp; a VIRT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869F-AD0A-4568-8BEE-60B6C99778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341280"/>
            <a:ext cx="8077320" cy="605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A4D3-9F6B-4826-AD37-CD40D097B6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30560" y="307800"/>
            <a:ext cx="4681440" cy="624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8E4F-F126-44F2-BEAA-B2146C2AAA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7c30"/>
                </a:solidFill>
                <a:latin typeface="Arial"/>
              </a:rPr>
              <a:t>         </a:t>
            </a:r>
            <a:r>
              <a:rPr b="0" lang="en-US" sz="4400" spc="-1" strike="noStrike" u="sng">
                <a:solidFill>
                  <a:srgbClr val="7a7c30"/>
                </a:solidFill>
                <a:uFillTx/>
                <a:latin typeface="Arial"/>
              </a:rPr>
              <a:t>The Bronze 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7c30"/>
                </a:solidFill>
                <a:latin typeface="Arial"/>
              </a:rPr>
              <a:t>Island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a7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Minoan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7c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a7c30"/>
                </a:solidFill>
                <a:latin typeface="Arial"/>
              </a:rPr>
              <a:t>Mainland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a7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Mycenaean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a7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7c30"/>
                </a:solidFill>
                <a:latin typeface="Arial"/>
              </a:rPr>
              <a:t>Trojan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657600" y="1600200"/>
            <a:ext cx="396252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657600" y="3962520"/>
            <a:ext cx="3962520" cy="2590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172200" y="152280"/>
            <a:ext cx="2209680" cy="1371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3520" y="14479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rca 2000 BC- 1400 B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B654-EA54-4D77-9AF3-C4FA12AEAD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0T00:48:57Z</dcterms:created>
  <dc:creator>Darien Public Schools</dc:creator>
  <dc:description/>
  <dc:language>en-US</dc:language>
  <cp:lastModifiedBy>Darien Public Schools</cp:lastModifiedBy>
  <dcterms:modified xsi:type="dcterms:W3CDTF">2008-09-05T12:30:50Z</dcterms:modified>
  <cp:revision>25</cp:revision>
  <dc:subject/>
  <dc:title>Slide 1</dc:title>
</cp:coreProperties>
</file>